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rrow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93D0-6D96-48CD-B8D6-D332EA3A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D94A-F162-4F27-8487-A3495E81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7865-6D24-4B5C-9BE8-CE1421D8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719E-773C-4007-B9CB-1B750AE5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E43D-C48C-464F-A4EC-C1E45895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5991-01FE-49BB-86B4-5F22D3D8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DA56-111C-4610-B887-715B0174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D286-238E-4498-9CC6-2F795E94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F409-DF0C-453D-BC20-0B9A7B6B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DBBF-459A-4E5B-9D5D-7C348BD8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B766-382B-43D9-9689-E8D70362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B6FB-E8CD-42FE-9048-D352BFD8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6B7B-B83F-4C47-AF86-92D2882DE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Earthqu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By: Erick Vic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Focus</a:t>
            </a: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Is the 100 kilometers of earths su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S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Are seismic waves that vibrate from side to side as well as up and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P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Are seismic waves that compress and expand the  ground like accord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Types of st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Tension: It pulls on curst, stretching rock so that it becomes thinner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ompression: It squeezes rock until it folds or brea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Shearing: It pushes a mass of rock in two opposite dire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Kinds of Fa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Normal Faults: Tension in earths crust pulls rock a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Reverse faults: in places where the rock of the crust is push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Strike-slip faults: In places where plates move past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Foot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The rock that below is called foot 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19520" y="2924280"/>
            <a:ext cx="5248080" cy="3933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 rot="10685400">
            <a:off x="799920" y="3575520"/>
            <a:ext cx="186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http://bullard.esc.cam.ac.uk/~jh468/photos/greece%2012.04/uplift%20on%20perakora%20penninsula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Anti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A fold in rock that bends upward into an 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581280" y="2819520"/>
            <a:ext cx="50799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syn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A fold in rock that bends downward to form a valley is an sync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plat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Is a large area of flat land elevated high above sea level is an platea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Hanging wall</a:t>
            </a: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The block of rock that lies above is called hanging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Earthquak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s  the shaking and trembling that results from the movement of rock beneath the earths surface is an earthqu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19:12:18Z</dcterms:created>
  <dc:creator>erickvicente</dc:creator>
  <dc:description/>
  <dc:language>en-US</dc:language>
  <cp:lastModifiedBy>erickvicente</cp:lastModifiedBy>
  <dcterms:modified xsi:type="dcterms:W3CDTF">2008-02-11T19:33:54Z</dcterms:modified>
  <cp:revision>7</cp:revision>
  <dc:subject/>
  <dc:title>Earthquakes</dc:title>
</cp:coreProperties>
</file>